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61A-4513-4F4A-BB37-5A2E8DDB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B4C-6F79-4D70-95F1-AEFA2A3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B4190-6037-4AB1-8C45-44851FF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3D854-DEB8-462C-A0A1-C330C9B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238CD-4714-44CD-89DC-E3DA4EDB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2EFC7-9639-4B2B-89FC-D51B890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814D0-2B68-4DCD-9942-78E61E0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159CB-0CD3-44F0-B77F-EE73322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547CF-3D24-43F6-B546-CEE2689E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E63CC-C341-4C68-B80A-73C0DF98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DD751-5A16-4F86-8E28-C10E14D5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768B0-6A13-442D-876E-14384527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1E8-2CBA-4EFB-BA88-F1927F6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E7845-B76A-49E6-A46B-681B237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EFDD1-9970-4B5C-8504-B54EEFC8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C4B0E-1487-442C-9B1B-1579F235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E88C5-55CD-40AC-B162-5777DA7F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A6F8D-58A4-4C09-8720-10C13CE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B9086-9FFB-4E46-A5C4-3C34267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912C0-1BF7-49EF-92FE-A39D08A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DB3F5-05E8-4067-A3A6-EF55878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F448B-F411-4BDD-ACE7-5926883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F89EA-26F0-4540-A453-120E2D8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BDF-6265-42BE-A8BD-49AD94A0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5C985-46E8-46D0-A37C-C3DF3089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DC2A4-77EA-4A32-8D69-441D4631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0EE3A-3006-4B22-88D0-366530E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FC6F9-47F7-4DC9-8033-08C19BD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63484-CF36-4029-BB79-DE04A518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7E95-0D3A-4878-8498-C76C0996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08C43-24AA-4611-9764-9E7AF0DB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C8FC0-8EE7-4574-BAE9-AE5210E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A320-6F7E-48EA-B999-EB495E2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7462C-1D61-4A34-8721-B9B0CB3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0B8-5290-47CF-B9F4-5A568042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6B8C6-A6CB-4939-9267-49EE1612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C2DCF-188B-4133-BB86-0EF9F002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5EBF2-1AB1-4761-A71A-AED85C2F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9773D-C6E6-45F7-B91F-5C39B9B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AC078-5714-4D04-B973-79880E4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22D75-9D4E-455A-BB6C-2E9B4CB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4D766-0974-4095-90FA-BA8622F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B6B92-FAED-4847-8F83-E265E59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915B3-099D-41A1-8F65-1D8BC24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1408A-8C33-403F-A19A-EAB6B90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9DA9-1236-428F-B12B-128B02C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C02BC-04BE-4D54-86C9-664726FD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39CFB-E0BE-4B37-BFA0-CB1DAF0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F74AC-261C-4619-B3F9-8F42F33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3E27F-E01E-4D8B-988F-650FE259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291A4-B8E5-469E-B4A3-39F05BE8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2FF-6868-4208-8281-97062670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173C-FE04-42E2-948C-88A3153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59BE-8E3B-4D00-8EC6-4F686580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C02-69A3-402C-B3B8-5467A6EC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A10-E0A7-41D9-BAAA-0A7715D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F83-DF5A-4224-9D1E-40417421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9FE-61B5-44D7-B69C-9D7E196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2995-72EC-4769-BA63-973544F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BC0-9BB7-467B-9674-FA0DEF5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64FC-1FC6-46B4-9A46-512B3E99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782A-888D-42DF-BB59-D7EA7B3A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A8E9-87FF-4622-9914-222210EE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C7F8-4DE3-481A-93A9-C0FEEF66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069E-402F-491E-9F6F-4B544FA7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4F39-906D-4275-8789-30330CE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8925-6778-4C62-9B8D-5C80BFB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20C-C230-41E3-81AD-DD1E1BF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A5AF-CFE5-402A-8B38-F209D70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324B-5656-411C-B450-3AAAA35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00E0-209C-48AC-8E41-28E043E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9399-6FAA-4938-A680-464908B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0084-479C-406B-B141-8B39ED8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CED6-2E20-4915-B73E-59008D5B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C7EE-8C1F-45E9-A0FB-82269AFD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8853-8E93-4F75-9CE0-4A1A36DD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0009-ECC5-4160-B8BB-5260B7A1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778F-0949-4AFD-B574-E6C60C5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D55-7CBF-492C-9546-F2BB3B1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D7C6-4D0C-4FBD-8E13-779DE2F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D2F5-9CFC-49EB-A545-FC25A38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05860-1DD8-4A13-803C-3FC8FD80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D4C6-352B-47BA-A4BB-C0092E9B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D53C-2F45-48F8-A241-4FA1D46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D4E6-98FC-45DB-828A-328D162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03BD-2CDC-4B75-A8A8-9280B79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7D4C-BE10-47B4-B01A-A6E52D13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183B-B4DE-4006-B789-6E6015E8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58C3-14F8-4C4C-9632-91329C45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1B1-009B-4C88-83DF-48A33260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DC3C-4B81-4EAD-982B-887B78F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7E3F-1BAB-4DAD-B8D3-4183B9E3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A9D54-77D4-4864-B9BD-D2999EC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6035-2128-49D6-9F51-3AF9A81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9D2C-235B-46CC-A68E-8E2C24D1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7BB8B-B938-4657-9E5E-5D2B65A3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AAD9-CA10-46A4-AE59-56FF803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CABF-79B3-465F-965B-3121740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E2CF2-B093-46DA-93B6-0AB6916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A8A3-8262-4D5D-A8A2-4597BD9D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03D-A26F-4319-8A09-E97390A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CEB25-FD0A-419E-89D8-4DD5E8E7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58CD-6239-45FB-BE6F-D4DA4721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E761F-9045-4B02-AFEC-F6E5F6E4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687F4-1DDC-470D-9362-94D6E41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76A66-5BCE-49B3-829A-4AD1B58F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7B63-E177-4318-8BAF-6DDF90F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B50D-862F-476D-BC2F-CEE9E972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5D6E-DC25-477A-B283-D01E8BB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DA95-0A16-4F9A-A26B-39FE20A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E05B-1634-4E6F-8CCE-7AC8196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279-B9C4-4392-AC2B-17530A1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9B17-CF89-41EB-8FCD-71595A37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0C69-C1D7-48D6-9555-E340764D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8BC9-89FA-49C9-810E-A05B393F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39E2-1886-4C62-BC48-346C2EA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5005-7BC4-4833-99B9-5AC89F4A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EC1A-B326-4433-9145-C34B9716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1F92-385D-4920-B033-B04E9D88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E185-1949-4570-AE7F-6C5B34E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85F8-3F10-4376-A1BC-3EB613E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9D65-5C25-4087-97F0-252D096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B3D-D24B-4E4B-854C-3BCCA3FB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FB3A7-3610-47EB-8745-B622F25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D67C-8ADE-4092-81C4-40C2C2B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8ADA-B39B-44F0-A06C-572D7DC7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A9AD-4677-4532-88B3-A150A092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3A6D-1B92-4616-8FEF-FBCEF75B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C0C72-E752-4AC3-BBCA-98E519EC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211F0-270E-471B-A47A-AA051A6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8BE2-4BE2-465F-A4D3-30A810A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54F62-A7D2-4825-AF75-ED5187C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55650-9DCE-42E2-9739-7FFC627E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AF6-DF6C-49D0-BE38-3683E5FB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C2C2C-3F18-4501-89E1-5F0628D0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4BE5-6CD4-4FFF-8D6D-86F79C7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7148-CDC3-4FC5-8548-2068ABF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C5DD-F487-4E17-AB8F-543346D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A406-D17A-4A2D-AC27-06BA639D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4445-8B73-475F-891A-73D6DB5D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71AE3-38BA-4A74-AA54-D44972D1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BB8A3-AC3A-4DCD-8F74-71C90139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69F05-B53E-4A8A-9B13-0C7B212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29BA5-BCD4-42AB-9993-77B2A44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141-EB16-4144-BF1E-CC1CD16B9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F252-4AC4-40AA-8278-488006DC9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D9D-F47A-4A19-8CA5-04A79EEE4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A07D-37C3-440C-BCA1-0D6FE395F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C68F-4A59-489A-9FF9-4E4C761EDA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E2C9-7A74-4FE3-A49E-8B34AD98D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BF72-5421-4C56-BA2D-DFDABBE26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328D-0C98-4768-8E71-9B98D344D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4E2-6DE4-49BD-B615-B98C6132C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056-72CA-4C4E-802D-4BB77EC83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D93-3281-48E7-A28E-B2AA74A7CE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154C-C614-45E9-8F91-57C69D4D4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ession 3 Small Group: Write to Lear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3" descr="C:\Users\curtosa\AppData\Local\Microsoft\Windows\Temporary Internet Files\Content.IE5\JEONLF7F\MC900413460[1].wmf"/>
          <p:cNvPicPr/>
          <p:nvPr/>
        </p:nvPicPr>
        <p:blipFill>
          <a:blip r:embed="rId1"/>
          <a:stretch/>
        </p:blipFill>
        <p:spPr>
          <a:xfrm>
            <a:off x="3200400" y="3454560"/>
            <a:ext cx="22194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21480" cy="54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Go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cross the school year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riting in EVERY classroom EVERY day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mediate goal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ET STUDENTS WRITING!!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 upon the implementation of using writing frames with stud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the three purposes for nonfiction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epen our understanding of writing fram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Admit Slip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are now nearly ½ way through our WTL professional development.  </a:t>
            </a: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iscuss how WTL has changed the atmosphere and the learning of your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ip Ar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4" descr="C:\Users\curtosa\AppData\Local\Microsoft\Windows\Temporary Internet Files\Content.IE5\SGOGTRZ9\MP900438552[1].jpg"/>
          <p:cNvPicPr/>
          <p:nvPr/>
        </p:nvPicPr>
        <p:blipFill>
          <a:blip r:embed="rId1"/>
          <a:stretch/>
        </p:blipFill>
        <p:spPr>
          <a:xfrm>
            <a:off x="4343400" y="3657600"/>
            <a:ext cx="3200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rpose of Non Fiction Wr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85800" y="1527120"/>
          <a:ext cx="7736040" cy="4572000"/>
        </p:xfrm>
        <a:graphic>
          <a:graphicData uri="http://schemas.openxmlformats.org/drawingml/2006/table">
            <a:tbl>
              <a:tblPr/>
              <a:tblGrid>
                <a:gridCol w="2577960"/>
                <a:gridCol w="2579760"/>
                <a:gridCol w="2578320"/>
              </a:tblGrid>
              <a:tr h="753480"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ngag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roces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Demonstrating 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04100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provide all students with a nonthreatening opportunity to respond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engaged in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graded, not related to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help students “think” through writing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process the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ive writing a plus, check, 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uides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pose: produce a product piece that goes through the writing proces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udents provided feedback through a rubric with clearly identified levels of 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llaboratively sco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Frame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re out examp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4" descr="C:\Users\curtosa\AppData\Local\Microsoft\Windows\Temporary Internet Files\Content.IE5\8OQXAXSZ\MC900123919[1].wmf"/>
          <p:cNvPicPr/>
          <p:nvPr/>
        </p:nvPicPr>
        <p:blipFill>
          <a:blip r:embed="rId1"/>
          <a:stretch/>
        </p:blipFill>
        <p:spPr>
          <a:xfrm>
            <a:off x="4952880" y="3276720"/>
            <a:ext cx="29955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igsa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member of the group will select 1 frame type from the li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bout the selected fra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y characteristics and opportunities for implementation, possibly specific to your content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the grou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rd ideas as others sha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5872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295280"/>
            <a:ext cx="8504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Exit Slip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ive an example of a specific frame that you could use in the next week and how you will incorporate it into a les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 Next Time: bring an example of a specific frame you us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y Name: Writing to Learn-Year 1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uilding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ity #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01321737120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Requires 15 hours of documented agendas for professional development provided at the building level 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ue May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57:14Z</dcterms:created>
  <dc:creator>Wildman-Swartz, Rebecca</dc:creator>
  <dc:description/>
  <dc:language>en-US</dc:language>
  <cp:lastModifiedBy>Curto, Sara</cp:lastModifiedBy>
  <dcterms:modified xsi:type="dcterms:W3CDTF">2012-02-09T18:29:11Z</dcterms:modified>
  <cp:revision>17</cp:revision>
  <dc:subject/>
  <dc:title>PowerPoint Presentation</dc:title>
</cp:coreProperties>
</file>